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B97-2A8B-469E-A71A-C99FB5AC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43B-AB75-44ED-AC6D-9B33428C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211-6F11-4F0C-BC45-47742081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005-432F-4AF7-948C-96A040CC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BA8-996B-44B3-B7A3-9645CB26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F96-97A0-462F-BC47-D25CCB3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675-A6A8-4C1D-882E-7CE81D71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771-6F45-4ACB-8F25-F969C5F9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5C9-2867-4831-937F-E70FD846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19A-B41F-4529-94F0-B30BABE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B00-5432-4391-ADF2-50A99EE8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38C-D2B1-49B9-B390-B02E6A2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C0D0-C1D5-4320-BA32-9441B85C5A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219320"/>
            <a:ext cx="566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696440" cy="30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96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4924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imes New Roman"/>
              </a:rPr>
              <a:t>q = .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324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66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47920" y="4876920"/>
            <a:ext cx="6705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32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620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7619760" cy="38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2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8487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8001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6248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095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48720" cy="32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772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14:13Z</dcterms:modified>
  <cp:revision>216</cp:revision>
  <dc:subject/>
  <dc:title>Slide 1</dc:title>
</cp:coreProperties>
</file>